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058-CE0C-4985-AC2C-CF6477AB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1A9-4E5F-451D-B109-C87D9B9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CE2-2F14-4D2B-AE11-DB004A83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167-50BA-4015-B625-AA5BF9D3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5B76-A228-4814-B053-F7E3C7BF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0F63-C94F-42BB-9A4A-A8D4C388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00C-4E88-4343-8BBD-3B735A24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EE1C-A08B-412A-84ED-FE843DF0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6AC6-7693-4493-9439-898D6C1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439B-485D-4AB5-B3C2-D7ABC535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9200-07AD-4DE9-953F-6C1170C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732-DE2F-4A91-A7DE-D798BC1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683-0AF2-47DB-A9D0-C0F5F11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C94-C8C8-462B-8F45-D288BC4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0206-3C08-49E1-96AD-6AE2D9D9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683-ACBA-4CE1-8DE8-ADC1D49F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186E-E1C2-4087-B661-4DEFC848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210-96E1-4C65-B9DF-0183DC5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E7C-2594-4C6D-A22D-9D598F1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943-26FE-4CB1-8129-8C94A93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ABC-0576-402F-AF86-8B5A3872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B75-5844-495F-8682-626F23D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3F5-6BA3-48B5-A646-6636CB4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810-EC9F-4A58-B4C9-29CB35B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479-C891-4E62-B63F-EA87A7F230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185-7DD2-4C8F-9697-519C0373FA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8305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Sheltered English Instructio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for the Second Language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inu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must outline specific ways to address the ESL student’s needs in reading and writing in the four major categories (preproduction, early production, speech emergence, and intermediate fluenc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needs a simulation idea, minimum of four internet sites, a project from each of the following technology programs: a video clip made from Movie Maker, a newsletter from Publisher, organizational idea from Inspiration, assessment collection model from excel, and information from word fi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must include a grading rubric for the student’s final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Sheltered English Instr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pulative ori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ode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matic lear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e-inf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on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-cen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mplified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er spee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 pronun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r Simpler sentences and then high level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rolled vocabul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tement, examples, synonyms, expa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t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mar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-read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extua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the message; its meaning and the task to be accomp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visu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realia, props,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udio c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dy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graphs, charts, word webbing, mind m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sens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matic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room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ly motiv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fortable atmosp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tress on oral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sitivity to cultural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itive rei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Merging Second Language Acquisition Theory a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Sheltered Content Instructio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must:  function as a facilitator, providing student centered activities which foster the acquisition of 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instruction compreh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aware of each student’s stage of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understanding and accepting of errors in language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low anxiety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d on students’ prior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Requireme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sson is organized around an identifiable topic and clearly defined objectives—Matched to  USOE Core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creates a positive learning situation (uses anticipatory set, positive reinforcement, appropriate learner feedback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frequently checks for understanding (student correction proced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s tries to lower affective filter by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ing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 respon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a safe environment that encourage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s students to volunteer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oose at least six of the suggestions listed below and incorporate in your lesson plan activities for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ic organizer (Venn diagram, webbing, ma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s (pictures, video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 or realia (“real object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stures/body language/ facial expressions (TP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ys attention to rate of spee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s vocabulary or rephr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eats key vocabulary &amp; puts language in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 opportunities for student to listen and speak (role pla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opportunities for students to read &amp; wr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operative learning grou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cabulary building games and exerci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06:20Z</dcterms:created>
  <dc:creator>708144</dc:creator>
  <dc:description/>
  <dc:language>en-US</dc:language>
  <cp:lastModifiedBy>708144</cp:lastModifiedBy>
  <dcterms:modified xsi:type="dcterms:W3CDTF">2006-12-05T17:34:24Z</dcterms:modified>
  <cp:revision>3</cp:revision>
  <dc:subject/>
  <dc:title>Sheltered English Instruction</dc:title>
</cp:coreProperties>
</file>